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move the slide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1D60-60D6-415F-891A-86D47E660D0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B33B-7C4B-4027-9E33-00DD9B5D70A5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D5F7-002C-444B-B120-A648364C9B1F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D470-E063-4FB1-823B-3B60AB306342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5D38-F55A-4345-84A0-784329A36D15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A150-1B87-4D20-B4F0-14E20585B5B8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8F47-BC06-4B45-9CA7-A2579873208B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F6A7-5221-4AAE-8DFE-3F30C27A5C02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42C4-AB5F-434A-864D-1BABB1BBC092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CDBB-A641-4EC9-AA1A-D8FC29F936CF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EB89-30F3-4C1A-9E30-BC3AE4799080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BD0D-2261-4136-9CE2-F004B718BD30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2322-D08B-4649-B259-CF1794710373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;  ; ce qui consomme une ressource rare dans un dispositif dont la mission principale n’est pas la médecine d'urgence (rôle dévolu au Sam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e qui consomme une ressource rare dans des dispositifs dont la mission principale n’est pas la médecine d'urgence (rôle dévolu au services des urgences publics et privés autorisés par l’ARS) ; ce qui, en outre, n’est pas sans ris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39CA-7F73-406C-8B36-581B8C221B62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CF2E-D961-48B7-B3B1-C8F5A330D7AC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B693-E62A-49B9-A46A-5C3EB244AF51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27C1-49C3-4506-AA18-82812D1A2302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2C34-1E2E-4824-8FE7-BC4C3F31F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9714-6613-4DC9-AB84-D2AE8121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E4B090-D976-49E7-A139-7476D39D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12D9C1-FEFA-4D5D-88AC-A83A5712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37293C-4E56-4417-B58B-73D89D5F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DF8C2A-3CFF-46AA-8E59-3D0EF4E4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BE6F0A-BFA7-4B45-98E9-0CA5F485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20172A-1526-4D52-8554-7B763C59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B14F19-480E-435A-92B9-1806EC9D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49F9F1-053F-4410-8310-1FACE1516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FBF68D-ACC9-412B-9403-E3806CE35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C73A55-66C5-4B51-B91B-1B2083795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42C2-883E-4FC2-BDED-829416DAE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0A4F93-9B9F-4D9C-8560-3F8331B1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D06F8F7-B456-4B87-99F7-D2B8A5A5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240E69-607C-4E1D-A92D-F300333F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855918-BC71-46E0-8AF2-FABE1474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3BAF21-2C72-412F-97AF-86DBDBF3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D41597F-A7BC-4852-83A7-43A3D0A0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83555B-7FF2-4575-BD15-74BBB68A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41877F-2706-46E0-866E-1F315EAD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F0BCD2-79EA-4407-BD9B-94339136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25DB09-A07E-4CD5-BC57-F2E056F23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86DA-9172-4AC4-B45E-A53A65707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411FB2-B19A-4098-B7D1-5FE398A7F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3CC94-B16C-488D-8658-3F08722CD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271E1-D73C-4AD6-963B-306A6711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67775C-90A5-4FAF-B0C3-629D34BD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4B90C-7AF9-46AA-9679-0577A124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34414-5392-44AD-A5D1-4036BA24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57B989-380B-4D75-9FF6-A211F6AE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551B70-7A07-422E-811E-2AE2108A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487DEA-B64A-47AC-9BD5-04FD1288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7435B-2E52-4A70-9560-D1A4E1DA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70657-EE67-4740-BEA6-A18962A97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FB5F68-5F78-479B-AD24-8D5F6DAB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30615F-D029-4FDE-AFAD-13E62F743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A29990-4382-4E31-B508-AB0661E9B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C2852E-CD64-4177-ADC5-AE9E00DF2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731720-37E5-410D-8D1A-A1CB6213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2FD86B-9970-4036-92D3-7CE77A00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D11F92-CEAA-497F-9E47-1390F0D7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B02734-ED11-4F09-84F0-6DD03C1E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0AF676-6174-41EE-9575-6014D15C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89BB5D-CCBD-4C39-8277-184A119C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4B502F-C400-42EA-8F15-5430C104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05CCBF-F54C-41F9-A1E7-8D603D54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C34461-2C6F-4A9B-85E6-BB7E550A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776D13-F09C-4B81-A8EB-425A9E7C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EA2A3D-2318-441B-B62B-F44036CA6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A27363-4823-4A84-8583-B55EC75D9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E6029-F9C1-4740-B6A1-0D2BC5BE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2FDEB-3DD0-4865-B60D-58C512EE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D3D5B6-E8CE-481D-A2F2-44775692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964CA-6317-49E8-9DD0-4A1115C5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FF87B2-5377-45C6-B559-857704DD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69BE-997F-494A-BC39-8A7E4EE0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593391-A5EA-49EF-A89E-C6FC8CF0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52D60-8450-4A21-BF37-75BB3AC8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77D20-B42A-45A9-96D2-FC50467F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4545E3-2271-4114-A84D-D7DA3E126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E114E4-27D6-459A-A5A7-146D34A4C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12077-C599-45A9-AC49-E0A0085BD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346B2-A3E7-452B-BAFF-55A248BA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17FF3-44C7-4A73-9DF9-245A3FD9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82DB2-88A2-4499-9541-4EC2E644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3D6EB-402F-473F-AA55-F09275FA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D760-4E22-4D96-AA64-F058873D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3E0B8-2441-4972-9C8E-14739378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0C801-6A1C-45F7-9E67-A62413F3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F85CA-9835-4CB6-988C-99C17906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8E1FC-3930-4AFD-BD23-30DADAED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87A55-1CFC-431E-90D7-160AF234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994D9-83C6-455A-B0A2-6F3048CE6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18121-5435-438B-B46D-21FC2668D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4A82A3-E327-492D-BFB0-BFC6B7835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DB8BB5-399B-45BF-AE47-CA0F577E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130414-DD08-47F4-A0D4-87F1FE40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5A5D-3AD7-42C1-A3C9-EE2529FC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099DFB-EB36-42FF-BCA3-A6247BB2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49624A-5A6C-4537-B4F7-1E7F6E81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CC5AF0-B23C-4953-83A6-6709BAB0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B30A3B-BFB0-480F-AED6-F7E5A668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EC5978-D4F3-4AA4-B56E-B33DD8E1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3570CD-AFD2-4476-8AE5-CE6B9C9D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BD52FD-29D3-48C8-AF42-486E0CE6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89D32F-239E-49E3-9CD6-CB4F7910E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F64D76-B93A-49E8-AC10-591BB1024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7BD3B-F636-4C32-B67E-4527AFFA9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4D46-DC29-43FB-BF0F-D77C87EB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E3CA7-3F12-4DAA-9B38-BE6FE4BA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57673-FF6B-4A7D-B1CA-1C415B24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19748-66FD-4670-82F5-3280548E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CB3CF-8979-4415-AF64-B03F59C4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4405B-7EE4-428B-BC30-7906D7F6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876C2-8ACB-44FE-8852-37B97184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A0770-8F79-4F66-B407-AD1FB31C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2BD51-4265-4B01-8059-A7A88C69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B7641-2D95-40C6-A73B-646AD624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2E7E4-405D-4C18-B8B3-09E14CF1D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7D13-1F60-4963-A29B-01D869E0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919E6-06ED-4A48-BAE1-FDF2E3EFF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A3362-ED1A-40D9-8F5E-184FAECC7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5F9A7-2C69-410E-905B-5379A5BB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73183-9D7C-4FA8-8213-60FF0A82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9E964-6E6D-4164-A806-311F662A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9E845-AB4A-4D9E-AB22-51A9311E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4D3E7-4798-40F7-BE42-80A02ECB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78BF6-77BB-4618-A729-FEB306B5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2B173-C2AF-44AB-A195-CD5202B3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DACE9-E06E-4B4C-8279-7288C28B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FF94-AF71-4A82-B397-93BED92F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51CA5-8C17-4900-8F49-A4C3C806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B78CD-EC37-4A70-8FDE-B522A4314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62100-8C83-447C-B8F6-D5B7C9611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9147C-A6A4-4729-BD49-43EE4BB4F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49E93-730B-47BE-B323-A7A38D15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FAD78-E96D-472A-A376-D35183A5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FB0BE-02CF-413D-AEFA-FFCEB629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6F54C-7EE1-4346-B2D3-500D7E73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EEBD9-87B0-4622-B3C3-57390EA0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C6BCB-CC5E-47D5-9DD6-E09DFEEC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4E08-2F7C-461B-919F-A42B023E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EEC48-4DA9-41D2-BE21-0387DF0C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54985-40A0-4772-9D19-991FCDBD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52635-CD2D-489D-9652-B89AFB2D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E61AF-4CEB-4BB6-9C0E-27E899973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3103E-2F0F-4770-9EFF-180619F57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3EF3D-2921-48F5-AC45-F4B812D9D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1F578-C224-4A8B-8D71-1D9DA62B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1B62B-FBF3-4D2C-8C4B-B1B6D60F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3E81F-C235-4368-9A4B-63165086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8AD10-61B4-4D24-9B20-C0EF1283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5479-9DEA-4251-9010-1729E0DD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85915-B899-4923-89D8-A23301BB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AA889-FC4C-4D0A-B3C4-D3DDF13D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361E9-03E4-4233-951B-9105E0BD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F7F02-C569-45B6-AF71-D064F45E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A710E-0D6A-4720-94A5-265E2FE6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ED8F1-8686-4ED0-803C-2E5020CFA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597DA-AC06-4BEB-8AF3-141CDDD5F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BA7642-1AE5-4D98-AE06-AE2C2892E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C15D15-C3CE-4519-A75A-1C7B70D7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7330B7-85E8-49C5-9452-5C5DE6B9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A419-85E8-4082-ABC2-CEA3F6C18602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29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209C-ABFA-4D5A-8C05-88C573B14BD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30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39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4428-CD6F-44F5-80C3-D8211AED807D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83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8848-1488-4F97-A398-91DEC3BBD712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Arrondir un rectangle avec un coin diagonal 6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7ACC-3364-4693-9C25-E2DE811A59B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91" name="Rectangle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5D7C-C75E-4760-8BF6-4041955BC1B6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EFC1-B872-42F1-A0E9-23FD2A823E4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178" name="Rectangle 9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721B-1051-4955-BAA9-3A70D35BD7F1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23" name="Rectangle 9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F944-469C-4895-80A8-488F975E680C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69" name="Rectangle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D30B-C473-4BDF-AE3C-0B297C0B5EDD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12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6891-0672-475E-994E-AEC8A1AC3519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sldNum" idx="26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26C1-0245-4FC4-8F4F-FB97876E206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ftr" idx="27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Titre 1" descr=""/>
          <p:cNvPicPr/>
          <p:nvPr/>
        </p:nvPicPr>
        <p:blipFill>
          <a:blip r:embed="rId2"/>
          <a:stretch/>
        </p:blipFill>
        <p:spPr>
          <a:xfrm>
            <a:off x="457200" y="208080"/>
            <a:ext cx="8583480" cy="240192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301680" y="3881520"/>
            <a:ext cx="8391600" cy="277344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8dac2"/>
                </a:solidFill>
                <a:latin typeface="Calibri"/>
              </a:rPr>
              <a:t>Marc GIROU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8dac2"/>
                </a:solidFill>
                <a:latin typeface="Calibri"/>
              </a:rPr>
              <a:t>conférence territoriale du 95 , le 28 février 2013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8dac2"/>
                </a:solidFill>
                <a:latin typeface="Calibri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ZoneTexte 3"/>
          <p:cNvSpPr/>
          <p:nvPr/>
        </p:nvSpPr>
        <p:spPr>
          <a:xfrm>
            <a:off x="2674800" y="3013200"/>
            <a:ext cx="587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évelopp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maisons de santé pluridisciplinair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oordonn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ngé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des généralistes non regroupé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bdc097"/>
                </a:solidFill>
                <a:latin typeface="Calibri"/>
              </a:rPr>
              <a:t>CDSA = continuité des soins (hors PDS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4BAE-4562-4CA9-8415-06F90417A468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évelopper l’usage du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M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filière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(ex : AVC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partenaria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Samu-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EHPAD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, Samu-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HAD…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4520-F0EE-4A20-9295-BD102FFCB938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326520" cy="115884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opérations hospitalièr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consultations avancée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équipe d’urgentistes de territoi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BC06-31E5-418C-AB6B-9F948C5F8C84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Accompagnement social 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our les cas où les problèmes médicaux semblent conditionnés par la situation sociale (solitude, vulnérabilité…)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8979-3449-43C9-921B-8148D175C7F0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Bon usage des ressourc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(dialogue / médecin régulateur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ouleur thoracique, AVC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1BB0-C612-4B82-BBCD-388F676A4BB7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Secteur Est (Gonesse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Smur pédiatriqu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Médecins correspondants de Sam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EDF5-8753-4A1D-99A4-183439DE50EB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326520" cy="115884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Travail d’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ingénieu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Variations quotidiennes liées à la circul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Variations liées à la charge de travail des équip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Saisonnalité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egistre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des cas graves pris en charge en plus de 30m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4349-E832-4D60-97AE-A09CCA81C06C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Territoir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urbain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ou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uraux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pas certain que le déficit soit plus important en zone rura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Situation du Vexin frança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le territoire est, certes,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éficitai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mais il est bien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einturé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d’établissements de santé (pas tous dans le 95) : Pontoise, Osny, L’Isle-Adam, Beaumont, Méru, Gisors, Vernon, Mantes, Meulan, Evecquemo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Vexin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périurbain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et Vexin authentiquement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ur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9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0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DEE4-850B-4EF0-8207-CDB49BE6E625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DSA = (pour l’essentiel) SOS Médeci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en PDSA =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élais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souvent dissuasif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l’efficacité de la PDSA serait multipliée si les interventions de SOS Médecins étaient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ordonnées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par le Centre 1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4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5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22C9-DDD4-4971-81B6-8399E5B82ACE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DSA = continuité des soins (hors PDS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cours au 15 inapproprié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Cabinets médicaux :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ngés non coordonné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Périodes critiq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Répondeur : renvoi au 1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Nombreux recours au 15 pou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65736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retour d’exame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65736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continuité du trait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Nombreux passages aux urgen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65736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9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0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F28A-5159-4662-B9C5-8EE04889ACEA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455400" cy="11588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La régulation médicale = outi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e progrès médical,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’égalité social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’optimisation de l’emploi des ressources</a:t>
            </a:r>
            <a:br>
              <a:rPr sz="2400"/>
            </a:b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es généralistes libéraux participent à la régulation médica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epuis dix ans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c’est un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succè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mplémentarité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généralistes + urgentist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Elle pourrait être plus employé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accès à la PDSA insuffisamment régulé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4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5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5E59-983B-40CF-AF2E-CB066F4D445C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es consultations non programmées se développent dans des établissements privés avec d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urgentist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Les pompiers disposent d’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urgentiste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temps-plei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rupture du principe de complémentarité Samu-Sd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eci n’est pas sans risqu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eci consomme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essource rare des urgentist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ans des dispositifs dont ce n’est pas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mission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principal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la médecine d'urgence est le rôle dévolu aux services d’urgence publics et privé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autorisés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par l’A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9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0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43A0-7DC5-40B2-85E1-DC73BF4EAE40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Titre 1" descr=""/>
          <p:cNvPicPr/>
          <p:nvPr/>
        </p:nvPicPr>
        <p:blipFill>
          <a:blip r:embed="rId2"/>
          <a:stretch/>
        </p:blipFill>
        <p:spPr>
          <a:xfrm>
            <a:off x="457200" y="208080"/>
            <a:ext cx="8418600" cy="541152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301680" y="3881520"/>
            <a:ext cx="8391600" cy="27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ZoneTexte 3"/>
          <p:cNvSpPr/>
          <p:nvPr/>
        </p:nvSpPr>
        <p:spPr>
          <a:xfrm>
            <a:off x="2674800" y="3013200"/>
            <a:ext cx="587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Encourager les généralistes à anticipe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les 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situations d’urgence attendues ou prévisibles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mieux informer les patients de ce qui peut leur arriver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rédiger pour les malades chroniques des fiches de liais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les 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situations de fin de vi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584D-C374-4FC8-8DFB-721497DDF416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égulation médicale 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au Centre 15 et notamment la participation d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généralist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Aller plus loin dans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prescription téléphonique 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ar le Centre 15 (selon recommandations HA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F8DE-4E11-44C8-929F-5648ED991271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10:44Z</dcterms:created>
  <dc:creator>Marc GIROUD</dc:creator>
  <dc:description/>
  <dc:language>en-US</dc:language>
  <cp:lastModifiedBy>CHRD</cp:lastModifiedBy>
  <dcterms:modified xsi:type="dcterms:W3CDTF">2013-02-28T11:09:46Z</dcterms:modified>
  <cp:revision>13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